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A97-64F4-46A4-80E7-C9B80D29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4CE-3899-4926-B044-E47D3954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8EB-B869-4D7B-8774-AC94FF9E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D9F-FF95-448D-AF61-EF4A1A17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01F-967D-4337-8696-4E76797A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273-E2AE-4DBB-8D7C-0CB71D50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F77-4C70-461D-9108-15504E69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876C-972C-4BAB-A7C4-FF051753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FB2-6A0A-4388-8783-9A302802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F71-13EC-4E7D-AB9E-A8392BA4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FAF-E558-49B1-ADED-585C6726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4FA-8B78-4B1C-AEC7-BACF5ECC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9323-F049-43BC-9B09-8FAC749475A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410" t="7707" r="8564" b="23399"/>
          <a:stretch/>
        </p:blipFill>
        <p:spPr>
          <a:xfrm>
            <a:off x="7667640" y="0"/>
            <a:ext cx="1297080" cy="17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765000"/>
            <a:ext cx="7772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79185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Diwani Bent"/>
              </a:rPr>
              <a:t>بسم الله الرحمن الرحي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ورقة عمل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يل البيانات ونظم الأعداد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لاسم:....................................................                       الصف:................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أول</a:t>
            </a: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ea typeface="AGA Dimnah Regula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قرئي العبارات التالية و أحيطي الإشارة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صحيحة وأحيطي الإشارة 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خاطئ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ني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كملي الفراغات التال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وز النظام الثنائي ه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........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اس النظام السادس عشر هو 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ل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حسبي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ي من النظام الثنائي الى النظام العشري 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1844640"/>
            <a:ext cx="439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2708280"/>
          <a:ext cx="7656480" cy="865080"/>
        </p:xfrm>
        <a:graphic>
          <a:graphicData uri="http://schemas.openxmlformats.org/drawingml/2006/table">
            <a:tbl>
              <a:tblPr/>
              <a:tblGrid>
                <a:gridCol w="6481440"/>
                <a:gridCol w="358920"/>
                <a:gridCol w="81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س النظام السادس عشر هو العدد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بايت الواحد تساو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بي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24000" y="476280"/>
            <a:ext cx="1152360" cy="7920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3640" y="836640"/>
            <a:ext cx="115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6021360"/>
            <a:ext cx="477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27:13Z</dcterms:created>
  <dc:creator>norah</dc:creator>
  <dc:description/>
  <dc:language>en-US</dc:language>
  <cp:lastModifiedBy>شوشو</cp:lastModifiedBy>
  <dcterms:modified xsi:type="dcterms:W3CDTF">2007-01-01T15:56:08Z</dcterms:modified>
  <cp:revision>64</cp:revision>
  <dc:subject/>
  <dc:title>عرض تقديمي من PowerPoint</dc:title>
</cp:coreProperties>
</file>